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4B7-02C0-4654-A243-7232A676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243-3AA9-441D-8D9D-9F670E5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857-E111-4D3E-B4B9-C7E0E46F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B68-3E70-42D2-98FA-DE28ED92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C081-D59A-4BAC-9F34-2B2231F1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6F5C-747A-4180-91F2-8A454770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4367-E75D-4A31-A37D-525BBE67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835C-5BEF-4E2A-BEA3-B55BD98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6D8E-CB6F-4C92-BA14-2CCC891C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55D3-A8B2-4608-B2F2-AA5ADD90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410E-59CF-493D-AE7A-C084E69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BD2-6BB2-4D32-850A-C534805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2ABD-010E-42EB-AC54-3DDB5DC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2BF0-31E6-4996-811F-42EA9B48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81F0-F3FA-463A-83DC-43F6362E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9B86-A107-4471-B355-F87FA8AE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B8F7-377F-4C30-B985-47A8C37A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D19-8727-47A6-8B9E-A2CD539D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44F-5D08-47F1-A1CF-53329DE9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612-90FA-45F5-B424-80265632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615-3C2B-489A-9442-BBAB59E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1DD-F978-4C9C-BE84-6654D6EF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EB7-DC27-4A3A-9A92-9278494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986-75CE-42B1-8F8A-E40FB71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15FF-C8F8-4FBF-B200-CABAF4393F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2984-5E35-44A3-A819-61936600CF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Декартова система координат на плоскости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Математика, 6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21798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тветьте на вопро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где находятся точки, абсциссы которых равны нулю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где находятся точки, ординаты которых равны нулю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 каких координатных углах находятся точки, абсциссы которых положительны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 каких координатных углах находятся точки, ординаты которых положительны?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те себ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205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) где находятся точки, абсциссы которых равны нулю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) где находятся точки, ординаты которых равны нулю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) в каких координатных углах находятся точки, абсциссы которых положительны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) в каких координатных углах находятся точки, ординаты которых положительны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) на оси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; 2) на оси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;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3)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I, IV;  4) I, II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Ренэ Декарт</a:t>
            </a: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(1598 – 165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502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Французский философ и математи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 области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точных наук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Декарт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принадлежат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ведение более простых обозначений в алгебру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сновная теорема в теории определения числа положительных и отрицательных корней уравн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етоды проведения касательных к кривы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зобретение аналитической геометрии и многочисленных ее приложен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физик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становление закона инерц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ложение движен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закон преломления и отражения света и др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71600" cy="1944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812000" y="616572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20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72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72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72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72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8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908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8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108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 авто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000" y="2421000"/>
            <a:ext cx="48956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Новую тему объясняла Исайчева Анастас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Февраль, 2009 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435640" y="378936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Зададим на плоскости две оси координат, расположив их под прямым углом друг к другу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58920" y="24206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– точка пересеч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сей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начальная точ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ы координа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сь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– ось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цис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сь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– ось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рдина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43280" y="2707920"/>
            <a:ext cx="0" cy="3313080"/>
          </a:xfrm>
          <a:prstGeom prst="line">
            <a:avLst/>
          </a:prstGeom>
          <a:ln w="158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4221000"/>
            <a:ext cx="3095640" cy="0"/>
          </a:xfrm>
          <a:prstGeom prst="line">
            <a:avLst/>
          </a:prstGeom>
          <a:ln w="158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180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56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8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4221000"/>
            <a:ext cx="3024360" cy="0"/>
          </a:xfrm>
          <a:prstGeom prst="line">
            <a:avLst/>
          </a:prstGeom>
          <a:ln w="158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43280" y="2708280"/>
            <a:ext cx="0" cy="3168720"/>
          </a:xfrm>
          <a:prstGeom prst="line">
            <a:avLst/>
          </a:prstGeom>
          <a:ln w="158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88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88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88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88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88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88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88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88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88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88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88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88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88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88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лоскость, на которой задана декартова система координат, называется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оординатной плоскостью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64000" y="2420640"/>
            <a:ext cx="3238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усть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произвольн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очка плоско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ведем через точку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ямые, параллельны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сям координа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ямая, параллельна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си у, пересечет ось х    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очке А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ямая, параллельн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си х, пересечет ось у    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очке А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абсцис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точки 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ордина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точки 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276720" y="2492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149720"/>
            <a:ext cx="3313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41497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357336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3284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299736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4365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465300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4941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522936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7440" y="2349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67120" y="378936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3860640"/>
            <a:ext cx="34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108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36450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3800" y="3789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4221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1016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616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9800" y="335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9800" y="306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9800" y="278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6520" y="3789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7800" y="3789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10160" y="3789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8520" y="45086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8520" y="4797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8520" y="50846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6160" y="28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2997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427640" y="2781360"/>
            <a:ext cx="0" cy="3168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3284640"/>
            <a:ext cx="266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57440" y="378936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7800" y="2924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609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А (4; 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6021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000" y="60930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А (х; у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6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36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36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36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36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36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36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36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36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136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3360"/>
                            </p:stCondLst>
                            <p:childTnLst>
                              <p:par>
                                <p:cTn id="1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360"/>
                            </p:stCondLst>
                            <p:childTnLst>
                              <p:par>
                                <p:cTn id="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736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9360"/>
                            </p:stCondLst>
                            <p:childTnLst>
                              <p:par>
                                <p:cTn id="1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76720" y="2492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4149720"/>
            <a:ext cx="3313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41497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407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357336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284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299736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4365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65300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4941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522936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17440" y="2349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67120" y="378936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3860640"/>
            <a:ext cx="34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108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364500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3800" y="3789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22100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1016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744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6160" y="42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9800" y="335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9800" y="306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9800" y="278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6520" y="3789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7800" y="3789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0160" y="3789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8520" y="45086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18520" y="47973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8520" y="50846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10160" y="28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4720" y="378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7440" y="4797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4221000"/>
            <a:ext cx="2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31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34000" y="294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38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05280" y="43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1800" y="49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981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пределите координаты точе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72360" y="3068640"/>
            <a:ext cx="2303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оверк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А (2; 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66cc"/>
                </a:solidFill>
                <a:latin typeface="Arial"/>
              </a:rPr>
              <a:t>В (-1; 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33cc33"/>
                </a:solidFill>
                <a:latin typeface="Arial"/>
              </a:rPr>
              <a:t>С (-1; 0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(-3; -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Е (3; -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8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8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Прямоугольная система координат   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хОу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разделяет плоскость на четыре угла, называемые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ординатными углами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ординатными четвертями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12000" y="2636640"/>
            <a:ext cx="2806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x&gt;0, y&gt;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I    x&lt;0, y&gt;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II   x&lt;0, y&lt;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V   x&gt;0, y&lt;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35280" y="2565360"/>
            <a:ext cx="0" cy="338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8000" y="4221000"/>
            <a:ext cx="3311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5800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980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544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6160" y="3068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7440" y="3068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7080" y="47242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6520" y="472428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76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76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76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76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76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476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676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76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Если на плоскости задана прямоугольная система координат  хОу, то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каждой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точке плоскости поставлена в соответствие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упорядоченная пара чисел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координаты точк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516720" y="3357360"/>
            <a:ext cx="0" cy="26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4724280"/>
            <a:ext cx="25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21440" y="32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4360" y="3500280"/>
            <a:ext cx="0" cy="15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56360" y="3716280"/>
            <a:ext cx="136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00640" y="4653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i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63920" y="3645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50000" y="431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908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10000" y="4673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6160" y="32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48360" y="566100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А (х</a:t>
            </a:r>
            <a:r>
              <a:rPr b="1" i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; у</a:t>
            </a:r>
            <a:r>
              <a:rPr b="1" i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3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36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36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36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36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36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Если на плоскости задана прямоугольная система координат  хОу, то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разным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точкам плоскости поставлены в соответствие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разны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упорядоченные пары чисе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72360" y="3284280"/>
            <a:ext cx="0" cy="28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32360" y="479736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94360" y="438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26000" y="438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144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18360" y="4859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1160" y="3376440"/>
            <a:ext cx="110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А (х</a:t>
            </a:r>
            <a:r>
              <a:rPr b="1" i="1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; у</a:t>
            </a:r>
            <a:r>
              <a:rPr b="1" i="1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5300640"/>
            <a:ext cx="117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(х</a:t>
            </a:r>
            <a:r>
              <a:rPr b="1" i="1" lang="en-US" sz="1800" spc="-1" strike="noStrike" baseline="-25000">
                <a:solidFill>
                  <a:srgbClr val="996633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; у</a:t>
            </a:r>
            <a:r>
              <a:rPr b="1" i="1" lang="en-US" sz="1800" spc="-1" strike="noStrike" baseline="-25000">
                <a:solidFill>
                  <a:srgbClr val="996633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96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96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96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 flipV="1">
            <a:off x="6227640" y="2708280"/>
            <a:ext cx="0" cy="3457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3280" y="4292640"/>
            <a:ext cx="3457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45680" y="4724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(х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у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8720" y="256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86520" y="38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780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11560" y="3860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i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31920" y="49417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36000" y="3645000"/>
            <a:ext cx="0" cy="20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530064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780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765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Если на плоскости задана прямоугольна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истема координат  хОу, т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43200" y="2427120"/>
            <a:ext cx="488952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каждая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упорядоченная пар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исел соответствуе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которой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дно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очке плоск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3080" y="49417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Если на плоскости задана прямоугольная система координат  хОу, то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76628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каждой точке плоскости поставлена в соответствие упорядоченная пара чисел (координаты точки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разным точкам плоскости поставлены в соответствие разные упорядоченные пары чисел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каждая упорядоченная пара чисел соответствует некоторой одной точке плоск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Иначе говоря, между точками плоскости и упорядоченными парами чисел имеет мест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взаимно однозначное соответств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7:22:30Z</dcterms:created>
  <dc:creator>-</dc:creator>
  <dc:description/>
  <dc:language>en-US</dc:language>
  <cp:lastModifiedBy>-</cp:lastModifiedBy>
  <dcterms:modified xsi:type="dcterms:W3CDTF">2010-01-11T18:48:41Z</dcterms:modified>
  <cp:revision>8</cp:revision>
  <dc:subject/>
  <dc:title>Декартова система координат на плоскости</dc:title>
</cp:coreProperties>
</file>